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D75-D2F3-4C89-B35F-4522E5C1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C02-1BBC-4DBD-9F6B-AC557C0A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249-0935-418E-887A-0CBC409D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1CD-B484-4D36-9A34-CC6B00F9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3186-9A2E-4790-9569-0CA5E252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6EF4-EE7C-4BD5-B1DD-9243D110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A393-9E5F-4DC2-A03C-2CC618D8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82F6-B863-49B9-B534-AFF60A23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C48C-3BAE-4739-B65E-D10AE02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594B-ABE4-4A9B-9EEB-79CC1966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967-1055-4151-A3D1-F8212800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33A-FE41-4037-A801-5D77BD81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F437-AFC8-48E6-AD42-90BCAD67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D23A-09AA-4605-9835-571116F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8612-9074-4D7A-87EA-1008312B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6F2E-84A6-49DC-BCFA-6F08FDE6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599F-0D6E-4C2C-9111-F73A35FA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943-E776-420E-B38C-B110C523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487-0A6B-418E-BE2A-AF634AE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539-57AD-47C8-B95B-F444DD09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C68-3EC8-427B-B2C9-D1EE063A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AB3-D5E7-4675-A06C-01FAB07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19F-478D-4DE6-8A77-E90B8707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909-A812-46A3-AF35-D8CA98EA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3B3B-F5D8-41E9-98B9-4E1801AC7A7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9A40-99AA-4195-92C9-F05D73F1FF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 3R4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74320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om 5C16, Pevensey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9720" y="725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ling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7680" y="239040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K, so now we know what a (Hidden) Markov Model is, and how to learn its parameters, but how is this all relevant to Cognitive/Computer Vis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H)MMs are generative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ception guided by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xample visual task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3960" y="772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ling (2)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mple case study: Visual task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seq1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29718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838080" y="2514600"/>
            <a:ext cx="3809880" cy="3733560"/>
            <a:chOff x="838080" y="2514600"/>
            <a:chExt cx="3809880" cy="3733560"/>
          </a:xfrm>
        </p:grpSpPr>
        <p:sp>
          <p:nvSpPr>
            <p:cNvPr id="147" name=""/>
            <p:cNvSpPr/>
            <p:nvPr/>
          </p:nvSpPr>
          <p:spPr>
            <a:xfrm>
              <a:off x="2361960" y="403848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403848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040" y="403848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1960" y="487656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1960" y="320040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190760"/>
              <a:ext cx="533160" cy="381240"/>
            </a:xfrm>
            <a:prstGeom prst="leftArrow">
              <a:avLst>
                <a:gd name="adj1" fmla="val 50000"/>
                <a:gd name="adj2" fmla="val 34962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8480" y="4190760"/>
              <a:ext cx="609480" cy="381240"/>
            </a:xfrm>
            <a:prstGeom prst="rightArrow">
              <a:avLst>
                <a:gd name="adj1" fmla="val 50000"/>
                <a:gd name="adj2" fmla="val 39967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4240" y="2514600"/>
              <a:ext cx="381240" cy="533160"/>
            </a:xfrm>
            <a:prstGeom prst="upArrow">
              <a:avLst>
                <a:gd name="adj1" fmla="val 50000"/>
                <a:gd name="adj2" fmla="val 34962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240" y="563868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17120" y="5591160"/>
            <a:ext cx="43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ining sequ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{3,3,2,2,2,2,5,5,4,4,3,3,1,1,1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1880" y="75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ling (3)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ample sequence 1 generated by HMM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observed states &amp; 14 hidden stat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1958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2520" y="788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ling (4)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ample sequence 2 generated by HMM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observed states &amp; 14 hidden stat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2102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4360" y="801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chastic samp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0480" y="2330280"/>
            <a:ext cx="7608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generate a sequence from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=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starting state according to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t=1: 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1*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tribution) using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 of th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rellis compu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a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ccording to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trib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1*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tribution) using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an output symbol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ccording to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trib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_F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1880" y="7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 - Semi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5800" y="258912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cal issues in computing the Baum Welch re-estimation formul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ing the number of hidden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tive modelling and stochastic samp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rs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1520" y="75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5800" y="2271600"/>
            <a:ext cx="8022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oo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=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t random (subject to probability constrain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41480" y="4971960"/>
          <a:ext cx="3276360" cy="175716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799160" y="3483000"/>
          <a:ext cx="3886200" cy="2158920"/>
        </p:xfrm>
        <a:graphic>
          <a:graphicData uri="http://schemas.openxmlformats.org/drawingml/2006/table">
            <a:tbl>
              <a:tblPr/>
              <a:tblGrid>
                <a:gridCol w="990720"/>
                <a:gridCol w="952560"/>
                <a:gridCol w="971640"/>
                <a:gridCol w="971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rot="16200000">
            <a:off x="3771360" y="430380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9120" y="308772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62280" y="55785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12840" y="459108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400" y="57657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800" y="540072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72480" y="61516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31360" y="39909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3720" y="457200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50800" y="51246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04960" y="3629160"/>
          <a:ext cx="3276360" cy="730080"/>
        </p:xfrm>
        <a:graphic>
          <a:graphicData uri="http://schemas.openxmlformats.org/drawingml/2006/table">
            <a:tbl>
              <a:tblPr/>
              <a:tblGrid>
                <a:gridCol w="819000"/>
                <a:gridCol w="819000"/>
                <a:gridCol w="819360"/>
                <a:gridCol w="81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849320" y="32241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16880" y="391464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9720" y="7408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6880" y="231444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ant to be able to calcula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35160" y="2906640"/>
                <a:ext cx="50832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03320" y="4133880"/>
            <a:ext cx="77817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(i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es from forwards evalu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(j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es from backwards evalu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initial values f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(O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O|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ut do we need to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8172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39600" y="237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O|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ut do we need t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930320" y="3060720"/>
                <a:ext cx="59436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092240" y="450864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O|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ormalising consta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is the same value for all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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(i,j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any individual iter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ignor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O|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we re-normalise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=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end of the re-estim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3880" y="696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1400" y="2285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all the Scaling Fact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F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he previous seminar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93680" y="441972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ded to prevent arithmetic underflow when calculating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relli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05560" indent="-205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F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ing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rellis and apply the same factors to the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rellis.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F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F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hink why 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379680" y="3429000"/>
                <a:ext cx="20574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17200" y="298944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thing else should now be straightforward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pt … how to choose the number of hidden node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5680" y="72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oosing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3280" y="2317680"/>
            <a:ext cx="805176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actual complexity of the underlying tas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o many nod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over learning and lack of generalisation capability (model learns precisely only those patterns that occur i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o few nod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over generalisation (model has now adequately captured the dynamics of the underlying task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problem as deciding how many hidden nodes there should be for a neural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0200" y="696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oosing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83560" y="2470320"/>
            <a:ext cx="6507360" cy="4269600"/>
            <a:chOff x="1483560" y="2470320"/>
            <a:chExt cx="6507360" cy="4269600"/>
          </a:xfrm>
        </p:grpSpPr>
        <p:sp>
          <p:nvSpPr>
            <p:cNvPr id="132" name=""/>
            <p:cNvSpPr/>
            <p:nvPr/>
          </p:nvSpPr>
          <p:spPr>
            <a:xfrm>
              <a:off x="2021040" y="2775240"/>
              <a:ext cx="0" cy="34290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21040" y="6204240"/>
              <a:ext cx="5257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407520" y="416556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Log Likelihood / symbo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61480" y="6280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3840" y="2546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83560" y="574704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-</a:t>
              </a:r>
              <a:r>
                <a:rPr b="0" lang="en-US" sz="24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44720" y="2775240"/>
              <a:ext cx="763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25960" y="3117960"/>
              <a:ext cx="4190760" cy="2857680"/>
            </a:xfrm>
            <a:custGeom>
              <a:avLst/>
              <a:gdLst/>
              <a:ahLst/>
              <a:rect l="l" t="t" r="r" b="b"/>
              <a:pathLst>
                <a:path w="2640" h="1800">
                  <a:moveTo>
                    <a:pt x="0" y="1800"/>
                  </a:moveTo>
                  <a:cubicBezTo>
                    <a:pt x="136" y="1336"/>
                    <a:pt x="272" y="872"/>
                    <a:pt x="432" y="600"/>
                  </a:cubicBezTo>
                  <a:cubicBezTo>
                    <a:pt x="592" y="328"/>
                    <a:pt x="688" y="264"/>
                    <a:pt x="960" y="168"/>
                  </a:cubicBezTo>
                  <a:cubicBezTo>
                    <a:pt x="1232" y="72"/>
                    <a:pt x="1784" y="48"/>
                    <a:pt x="2064" y="24"/>
                  </a:cubicBezTo>
                  <a:cubicBezTo>
                    <a:pt x="2344" y="0"/>
                    <a:pt x="2492" y="12"/>
                    <a:pt x="2640" y="24"/>
                  </a:cubicBezTo>
                </a:path>
              </a:pathLst>
            </a:custGeom>
            <a:noFill/>
            <a:ln w="158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1280" y="2470320"/>
              <a:ext cx="31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Little additional performance wi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increasing </a:t>
              </a:r>
              <a:r>
                <a:rPr b="0" i="1" lang="en-US" sz="16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652400">
              <a:off x="2556360" y="3232080"/>
              <a:ext cx="137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Optimal point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1:01:03Z</dcterms:created>
  <dc:creator>Sage</dc:creator>
  <dc:description/>
  <dc:language>en-US</dc:language>
  <cp:lastModifiedBy>Sage</cp:lastModifiedBy>
  <dcterms:modified xsi:type="dcterms:W3CDTF">2005-03-08T18:03:15Z</dcterms:modified>
  <cp:revision>44</cp:revision>
  <dc:subject/>
  <dc:title>Markov Models - Seminar</dc:title>
</cp:coreProperties>
</file>