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382-5A6B-4B1D-96BC-C8AC8B1E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FB4-CBDD-4BE7-812B-1D8D4D98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596-F3F7-4C39-9200-3A40E5DB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355-B328-42B0-8C25-1DF67F97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9E3-B774-4E32-BD5E-D10E0276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2835-742B-4BCB-9C54-887B785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9AFE-F086-407B-84D0-301E935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2D4-3286-4D08-84E4-40FBDD5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B81A-6376-49A0-A2C4-6E52ACE6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76D6-EB05-4575-9329-5F9D4930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27F-9C30-43B0-8B47-AEE96B1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2A0-77DE-4DD6-B994-4FFC046A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6A4B-3E51-44CF-ADF5-4A1CADE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793F-1549-4FCA-B3EE-46912DD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11D7-F815-405E-8500-F426C1A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D9FA-A793-4BE1-BA35-9446F12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4B49-76F8-4505-A6CC-E256E65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E73-8C40-40DD-8DD6-EFC4317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45A-0EE2-4030-861D-586EB27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E25-A43C-469E-A95F-78D96180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A11-D9FA-499B-9AAA-A3BFBF6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3A3-8546-48A3-99E5-D5458F3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502-43AD-46C8-8A85-F526A79B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554-D11E-4886-B6F5-DB63D76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13D-74CD-47BB-AE9F-438C8E7730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04F9-6C0F-4F71-83C2-901C55107B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 3R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om 5C16, Pevensey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9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60400" y="2597040"/>
          <a:ext cx="7772400" cy="1484280"/>
        </p:xfrm>
        <a:graphic>
          <a:graphicData uri="http://schemas.openxmlformats.org/drawingml/2006/table">
            <a:tbl>
              <a:tblPr/>
              <a:tblGrid>
                <a:gridCol w="1433520"/>
                <a:gridCol w="745920"/>
                <a:gridCol w="1138320"/>
                <a:gridCol w="1136520"/>
                <a:gridCol w="1043280"/>
                <a:gridCol w="1136520"/>
                <a:gridCol w="113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/ SF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3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86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5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91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012680" y="4502160"/>
            <a:ext cx="784404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erage value over all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gives us the measure of the fit between the model and an observation sequ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/symbol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0.3667+0.3373+0.4861+0.2653+0.2911 /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0.349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2800" y="8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3080" y="2687760"/>
            <a:ext cx="84582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Often expressed as a log value (log likelihood /symbol)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LPS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=  ln (Av/symbol)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= -1.051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n(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)    = 0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est possible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n(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)   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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7200" y="81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6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560" y="24876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 we can use the LLPS measure to “score” observations sequences. The workings are left as a practical exercis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2160" y="3782880"/>
          <a:ext cx="7010280" cy="2038320"/>
        </p:xfrm>
        <a:graphic>
          <a:graphicData uri="http://schemas.openxmlformats.org/drawingml/2006/table">
            <a:tbl>
              <a:tblPr/>
              <a:tblGrid>
                <a:gridCol w="3429000"/>
                <a:gridCol w="1676520"/>
                <a:gridCol w="19047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 / Sy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LP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red,red,red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33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red,blue,green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8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699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blue, green, blue, red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3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439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992160" y="6068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B: The sequences do not need to be the same leng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3640" y="2719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process to forward evaluation except that instead of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ng to state of model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 = 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it refers to the state of the model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 = 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we work our trellis calculations in the other dir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see this in acti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82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14480" y="310212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51080" y="4978440"/>
                <a:ext cx="6603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8" name=""/>
          <p:cNvGraphicFramePr/>
          <p:nvPr/>
        </p:nvGraphicFramePr>
        <p:xfrm>
          <a:off x="4923000" y="2757600"/>
          <a:ext cx="3886200" cy="2184120"/>
        </p:xfrm>
        <a:graphic>
          <a:graphicData uri="http://schemas.openxmlformats.org/drawingml/2006/table">
            <a:tbl>
              <a:tblPr/>
              <a:tblGrid>
                <a:gridCol w="1020600"/>
                <a:gridCol w="922320"/>
                <a:gridCol w="971640"/>
                <a:gridCol w="971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3817440" y="37216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35480" y="24685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5937120"/>
            <a:ext cx="7648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ssume </a:t>
            </a:r>
            <a:r>
              <a:rPr b="0" i="1" lang="en-GB" sz="32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 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-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re given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4080" y="76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4483080"/>
          <a:ext cx="2278080" cy="2170080"/>
        </p:xfrm>
        <a:graphic>
          <a:graphicData uri="http://schemas.openxmlformats.org/drawingml/2006/table">
            <a:tbl>
              <a:tblPr/>
              <a:tblGrid>
                <a:gridCol w="1287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131840" y="270036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292720" y="2795760"/>
          <a:ext cx="3276720" cy="1841400"/>
        </p:xfrm>
        <a:graphic>
          <a:graphicData uri="http://schemas.openxmlformats.org/drawingml/2006/table">
            <a:tbl>
              <a:tblPr/>
              <a:tblGrid>
                <a:gridCol w="835200"/>
                <a:gridCol w="803160"/>
                <a:gridCol w="819000"/>
                <a:gridCol w="81936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 rot="16200000">
            <a:off x="4147560" y="34689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9880" y="246384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2760" y="521496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s a special c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don’t know the terminal state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0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19040" y="2714760"/>
          <a:ext cx="3170160" cy="1460520"/>
        </p:xfrm>
        <a:graphic>
          <a:graphicData uri="http://schemas.openxmlformats.org/drawingml/2006/table">
            <a:tbl>
              <a:tblPr/>
              <a:tblGrid>
                <a:gridCol w="792000"/>
                <a:gridCol w="793800"/>
                <a:gridCol w="792360"/>
                <a:gridCol w="79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64000" y="2689200"/>
          <a:ext cx="3170160" cy="1587240"/>
        </p:xfrm>
        <a:graphic>
          <a:graphicData uri="http://schemas.openxmlformats.org/drawingml/2006/table">
            <a:tbl>
              <a:tblPr/>
              <a:tblGrid>
                <a:gridCol w="807840"/>
                <a:gridCol w="777960"/>
                <a:gridCol w="792360"/>
                <a:gridCol w="7920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rot="16200000">
            <a:off x="4268160" y="32180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05400" y="235908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21400" y="6378480"/>
            <a:ext cx="328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{…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=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12680" y="4495680"/>
          <a:ext cx="7569360" cy="1781280"/>
        </p:xfrm>
        <a:graphic>
          <a:graphicData uri="http://schemas.openxmlformats.org/drawingml/2006/table">
            <a:tbl>
              <a:tblPr/>
              <a:tblGrid>
                <a:gridCol w="1062000"/>
                <a:gridCol w="5800680"/>
                <a:gridCol w="706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 = T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6*0.1)+(1.00*0.3*0.8)+(1.00*0.1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1*0.1)+(1.00*0.6*0.8)+(1.00*0.3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2*0.1)+(1.00*0.2*0.8)+(1.00*0.6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78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7400" y="241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just like forward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scaling tricks app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 we need it t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bine with forward evaluation to create a technique for learning model parameters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ward-backwards algorithm / Baum Welch learning (next lectu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s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1360" y="269208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vestigating forwards and backwards evaluation and measures of model f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eed to write code or perform manual calculations, carry out specified experiments and write up a short re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ue &lt;due date&gt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840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 - 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0440" y="240480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al issues in computing a forward evalua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ior state as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ng the fit between a model and observ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s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we need i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800" y="79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rom the previous l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3880" y="258120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72280" y="2565360"/>
          <a:ext cx="3276360" cy="1684080"/>
        </p:xfrm>
        <a:graphic>
          <a:graphicData uri="http://schemas.openxmlformats.org/drawingml/2006/table">
            <a:tbl>
              <a:tblPr/>
              <a:tblGrid>
                <a:gridCol w="834840"/>
                <a:gridCol w="803520"/>
                <a:gridCol w="819000"/>
                <a:gridCol w="819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rot="16200000">
            <a:off x="4320360" y="31766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6480" y="22399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2920" y="63914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red,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51040" y="4335480"/>
          <a:ext cx="8008920" cy="2019240"/>
        </p:xfrm>
        <a:graphic>
          <a:graphicData uri="http://schemas.openxmlformats.org/drawingml/2006/table">
            <a:tbl>
              <a:tblPr/>
              <a:tblGrid>
                <a:gridCol w="1054080"/>
                <a:gridCol w="478080"/>
                <a:gridCol w="766800"/>
                <a:gridCol w="570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6) + (0.00*0.1) + (0.00*0.2)} * 0.1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3) + (0.00*0.6) + (0.00*0.2)} * 0.8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9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1) + (0.00*0.3) + (0.00*0.6)} * 0.2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6960" y="810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ior state of th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98640" y="2460600"/>
          <a:ext cx="1960560" cy="1950840"/>
        </p:xfrm>
        <a:graphic>
          <a:graphicData uri="http://schemas.openxmlformats.org/drawingml/2006/table">
            <a:tbl>
              <a:tblPr/>
              <a:tblGrid>
                <a:gridCol w="1162080"/>
                <a:gridCol w="79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098720" y="4500720"/>
            <a:ext cx="73292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at’s OK if we know the hidden structure of our model and what state it was in a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 but this is not always the case. If we have no other prior knowledge we assume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uniform prio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= {1/N,1/N,1/N}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# of hidden stat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4840" y="324324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= {1,0,0}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5400" y="84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ing (1) : Arithmetic under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28800" y="2576520"/>
          <a:ext cx="7696080" cy="2081160"/>
        </p:xfrm>
        <a:graphic>
          <a:graphicData uri="http://schemas.openxmlformats.org/drawingml/2006/table">
            <a:tbl>
              <a:tblPr/>
              <a:tblGrid>
                <a:gridCol w="1419120"/>
                <a:gridCol w="739800"/>
                <a:gridCol w="1126800"/>
                <a:gridCol w="1124280"/>
                <a:gridCol w="1033200"/>
                <a:gridCol w="1125720"/>
                <a:gridCol w="112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7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2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0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25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3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0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50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3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05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5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7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1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259640" y="472428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= green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green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blue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= red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9960" y="571500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Problem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co-efficients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0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geometrically as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ncrease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For long sequences this can give rise to arithmetic underf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4480" y="8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ing (2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46000" y="2478240"/>
          <a:ext cx="7971120" cy="2665440"/>
        </p:xfrm>
        <a:graphic>
          <a:graphicData uri="http://schemas.openxmlformats.org/drawingml/2006/table">
            <a:tbl>
              <a:tblPr/>
              <a:tblGrid>
                <a:gridCol w="1470240"/>
                <a:gridCol w="765000"/>
                <a:gridCol w="1166760"/>
                <a:gridCol w="1167120"/>
                <a:gridCol w="1069920"/>
                <a:gridCol w="1164960"/>
                <a:gridCol w="116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42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7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9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484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0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33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35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02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8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81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24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2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47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534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480680" y="5305320"/>
            <a:ext cx="6927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Times New Roman"/>
              </a:rPr>
              <a:t>Solution: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 Normalise each column so that it sums to 1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before continuing onto the next column of the forward evalua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ach column then has a scaling factor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SF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eed to think about what this means for the probability values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5000" y="81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1480" y="286524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any HMM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 A, B),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ant to be able to measure how well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describes an arbitrary observation sequence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ward evaluation is the mechanism, but what is the quantative measu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ikelihood per symb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3960" y="8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90880" y="2521080"/>
                <a:ext cx="53514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47880" y="3511440"/>
            <a:ext cx="79246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.e. the probability associated with any discrete observation symbol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is the sum of the trellis column at time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2920" y="5187960"/>
            <a:ext cx="6813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) gives us a measure of how the model fi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on account of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82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20600" y="2676600"/>
          <a:ext cx="7559640" cy="952560"/>
        </p:xfrm>
        <a:graphic>
          <a:graphicData uri="http://schemas.openxmlformats.org/drawingml/2006/table">
            <a:tbl>
              <a:tblPr/>
              <a:tblGrid>
                <a:gridCol w="1393920"/>
                <a:gridCol w="726840"/>
                <a:gridCol w="1106640"/>
                <a:gridCol w="1101600"/>
                <a:gridCol w="1019160"/>
                <a:gridCol w="1105200"/>
                <a:gridCol w="1106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155600" y="3895560"/>
            <a:ext cx="794232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Likelihood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= 1 / SF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gives us a measure of fit between 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and the model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assuming normalisation at step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t-1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I.e. that all steps have equal importa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= 1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est possible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0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1:01:03Z</dcterms:created>
  <dc:creator>Sage</dc:creator>
  <dc:description/>
  <dc:language>en-US</dc:language>
  <cp:lastModifiedBy>Sage</cp:lastModifiedBy>
  <dcterms:modified xsi:type="dcterms:W3CDTF">2005-03-08T16:26:19Z</dcterms:modified>
  <cp:revision>36</cp:revision>
  <dc:subject/>
  <dc:title>Markov Models - Seminar</dc:title>
</cp:coreProperties>
</file>